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8E4-5225-46BC-96F3-A2BED4E5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400-4022-42CD-8B7A-5F88B643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0F8-C1A5-44C7-A192-19C3B488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4E3-CFD8-4BBA-95A8-5A96772E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2D0-BA10-458D-9DCE-45B4329E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802-3C19-4153-AB5E-AB0D8209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564-24EC-4C79-BBAC-2CF3DBC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167-F5EA-4B94-B28F-89C67F66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641-84F1-4295-BBE9-75162AC4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0A4-5191-4C2E-8934-23E80255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FBE-4BAD-4806-ADB8-925FEFBA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E1F-A287-47AF-900D-E44B867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9D1-DDCB-4085-9F2E-900EF8F2A9B9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Protecting_the_planet_against_climate_chan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120636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76360" y="2020320"/>
            <a:ext cx="14292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71840" y="4869000"/>
            <a:ext cx="236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249120" y="49320"/>
            <a:ext cx="864576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mountai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eveloping houses that float on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exting warning of bad weather to fisherm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utting air-conditioning in bus stop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roof garde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ending money to help people after disaster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giving free bottles of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lanting mor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ghting against deng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improving the soi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heck your answers in the infographic on the next slid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-23760" y="77760"/>
            <a:ext cx="92152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492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Protecting_the_planet_against_climate_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148360" y="3836880"/>
            <a:ext cx="3240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41:30Z</dcterms:created>
  <dc:creator>Linda Ruas</dc:creator>
  <dc:description/>
  <dc:language>en-US</dc:language>
  <cp:lastModifiedBy>Linda Ruas</cp:lastModifiedBy>
  <dcterms:modified xsi:type="dcterms:W3CDTF">2014-05-26T20:08:22Z</dcterms:modified>
  <cp:revision>3</cp:revision>
  <dc:subject/>
  <dc:title>Quiz about climate change: what are countries doing to “climate-proof” the planet?</dc:title>
</cp:coreProperties>
</file>